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A4BF-E916-459D-9DC2-07362E037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9A91-6DFF-4970-A852-3FA61EE5A9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F8F03-0333-4B14-BD62-C0C0E48BD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5A665-2D65-4861-9FE9-DB5460F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99759-E6B3-49A8-97E7-03F6A6418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8E782-F17F-4375-973E-57221B01B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46B7-AD19-497C-BFCC-39446C8D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AF10-9B3A-4931-A486-57C94C43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099D-09BF-4B4D-A7EB-98248933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2250-16FA-43DE-B633-07CA342B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17BF-A9B9-4F21-A09B-02FC2778A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BD1C6-9478-4DFA-A552-3F6F0514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07AA6-0E20-4F23-8D0C-EFAC0CDDC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9D9B-D23F-4DA8-9EB1-CA7BAE2F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46b86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ccb4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8cad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8c7b7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8fb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46b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A712-A842-48CC-AB71-6130D5A795A3}" type="slidenum">
              <a:rPr b="0" lang="en-US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5d1d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5d1d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46b86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646b86"/>
                </a:solidFill>
                <a:latin typeface="Times New Roman"/>
              </a:rPr>
              <a:t>Интегрисане академске студије фар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46b86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646b8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646b86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646b8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46b86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1835280" y="3124080"/>
            <a:ext cx="5616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646b86"/>
                </a:solidFill>
                <a:latin typeface="Times New Roman"/>
              </a:rPr>
              <a:t>9. наставна јединица (деве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46b86"/>
                </a:solidFill>
                <a:latin typeface="Times New Roman"/>
              </a:rPr>
              <a:t>Вештина комуникације у вези са заразним болест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001400" y="5732640"/>
            <a:ext cx="32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46b86"/>
                </a:solidFill>
                <a:latin typeface="Times New Roman"/>
              </a:rPr>
              <a:t>Доц. др Ана Равић Никол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ВЕШТИНА КОМУНИКАЦИЈЕ У ВЕЗИ СА ЗАРАЗНИМ И</a:t>
            </a:r>
            <a:br>
              <a:rPr sz="2400"/>
            </a:br>
            <a:r>
              <a:rPr b="0" lang="ru-RU" sz="2400" spc="-1" strike="noStrike">
                <a:solidFill>
                  <a:srgbClr val="646b86"/>
                </a:solidFill>
                <a:latin typeface="Cambria"/>
              </a:rPr>
              <a:t>ДЕРМАТОВЕНЕРОЛОШКИМ БОЛЕСТИМА</a:t>
            </a:r>
            <a:endParaRPr b="0" lang="en-US" sz="24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венерич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пацијенту са кожним обољење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646b86"/>
                </a:solidFill>
                <a:latin typeface="Cambria"/>
              </a:rPr>
              <a:t>Најосетљивија комуникација у клиничкој пракси</a:t>
            </a: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ff0000"/>
                </a:solidFill>
                <a:latin typeface="Calibri"/>
              </a:rPr>
              <a:t>Дерматовенеролошка обољ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ве сексуално преносиве болести (скраћено СТД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Паранеопластичне дермато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Системске болести везивног тки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- Хроничне кожн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бољења инфективне етиолог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 АИД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Хепатитис Б и 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486400" y="1536840"/>
            <a:ext cx="365760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9680" y="214200"/>
            <a:ext cx="8301240" cy="150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0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0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0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5240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днос лекара се базира на начелу добробити и избегавања штете за болесн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аштита приватности и поверљиво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бавезно пружање најбоље здравствене заштит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бегавати предрасуде везане за ХИВ позитивне болесни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АИДС-а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Однос према ХИВ позитивном пацијент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Ниједном пацијенту не оспоравати третман због природе његове болес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Болест не сме бити разлог за ускраћивање помо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ацијент доноси одлуку о свом лечењ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200" spc="-1" strike="noStrike">
                <a:solidFill>
                  <a:srgbClr val="000000"/>
                </a:solidFill>
                <a:latin typeface="Calibri"/>
              </a:rPr>
              <a:t>Правилно информисати пацијента о природи његове болести, последицама лечења и нелече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Комуникациј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с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</a:t>
            </a:r>
            <a:r>
              <a:rPr b="0" lang="sr-RS" sz="4100" spc="-1" strike="noStrike">
                <a:solidFill>
                  <a:srgbClr val="646b86"/>
                </a:solidFill>
                <a:latin typeface="Cambria"/>
              </a:rPr>
              <a:t>пацијентима</a:t>
            </a:r>
            <a:r>
              <a:rPr b="0" lang="sr-Latn-RS" sz="4100" spc="-1" strike="noStrike">
                <a:solidFill>
                  <a:srgbClr val="646b86"/>
                </a:solidFill>
                <a:latin typeface="Cambria"/>
              </a:rPr>
              <a:t> који болују од заразних болести</a:t>
            </a:r>
            <a:endParaRPr b="0" lang="en-US" sz="41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је о пацијенту објавити само уз допуштење пацијент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УЗЕТАК: ако је угрожено здравље људи из окол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ада увек мора да постој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Шо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вериц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Стр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Неизвес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ећај криви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ај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600" spc="-1" strike="noStrike">
                <a:solidFill>
                  <a:srgbClr val="646b86"/>
                </a:solidFill>
                <a:latin typeface="Cambria"/>
              </a:rPr>
              <a:t>Психолошка реакција на болест</a:t>
            </a:r>
            <a:endParaRPr b="0" lang="en-US" sz="4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злојађенос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овлечење у себ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олација од спољњег св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Бе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ржњ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Жеља да се казне други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9680" y="213840"/>
            <a:ext cx="818676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r>
              <a:rPr b="0" lang="sr-CS" sz="4100" spc="-1" strike="noStrike">
                <a:solidFill>
                  <a:srgbClr val="646b86"/>
                </a:solidFill>
                <a:latin typeface="Cambria"/>
              </a:rPr>
              <a:t>К</a:t>
            </a:r>
            <a:r>
              <a:rPr b="0" lang="sr-CS" sz="3600" spc="-1" strike="noStrike">
                <a:solidFill>
                  <a:srgbClr val="646b86"/>
                </a:solidFill>
                <a:latin typeface="Cambria"/>
              </a:rPr>
              <a:t>омуникација у вези са превенцијом заразних болести</a:t>
            </a:r>
            <a:br>
              <a:rPr sz="4100"/>
            </a:br>
            <a:endParaRPr b="0" lang="en-US" sz="3600" spc="-1" strike="noStrike">
              <a:solidFill>
                <a:srgbClr val="646b86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Једини начин лечења АИДС-а и других СТД је успешна превен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Здравствено васпитањ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нформ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Едукац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d16349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Тестир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4T15:29:33Z</dcterms:created>
  <dc:creator>Win7</dc:creator>
  <dc:description/>
  <dc:language>en-US</dc:language>
  <cp:lastModifiedBy>Milanče Sin</cp:lastModifiedBy>
  <dcterms:modified xsi:type="dcterms:W3CDTF">2023-02-04T20:11:02Z</dcterms:modified>
  <cp:revision>24</cp:revision>
  <dc:subject/>
  <dc:title>Вештина комуникације у инфектологији и дерматовенерологији</dc:title>
</cp:coreProperties>
</file>